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E08-9549-4149-96FB-19907F7C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821-0C01-4DB5-B5C1-D8F7C2AF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A0F-3C2F-404F-BFC3-205BDA04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096-3022-4961-80E2-1DD1301E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C1D-EECC-4B93-90CB-A42C4E9C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031-D69E-4B22-B8E9-894B9DE6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9F7-69D6-469B-9B39-72A66F2E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EE0-BFD5-484F-A29B-22D08ABD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5B7-3E41-4563-8139-32ACE092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E40-0ECE-4FD4-8F26-0FA7D9E8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90E-F689-4920-8FED-7B8AC63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0D6-8470-4AC9-BBB5-08580E8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EF20-C27F-40E1-A00D-0BC07686A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1989000"/>
            <a:ext cx="641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システムエンジニアになるために必要な事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371628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9999"/>
                </a:solidFill>
                <a:latin typeface="Arial"/>
                <a:ea typeface="HGP教科書体"/>
              </a:rPr>
              <a:t>篠宮  英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メモ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メモには商談を思い出すのに必要なキーワードを書き留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sys01\AppData\Local\Microsoft\Windows\Temporary Internet Files\Content.IE5\NVMLX34K\MCj04338680000[1].png"/>
          <p:cNvPicPr/>
          <p:nvPr/>
        </p:nvPicPr>
        <p:blipFill>
          <a:blip r:embed="rId1"/>
          <a:stretch/>
        </p:blipFill>
        <p:spPr>
          <a:xfrm>
            <a:off x="3357720" y="2857680"/>
            <a:ext cx="3500280" cy="350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549360"/>
            <a:ext cx="73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他人の話を聞き漏らさない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sys01\AppData\Local\Microsoft\Windows\Temporary Internet Files\Content.IE5\HFIU7FP0\MCj04041490000[1].wmf"/>
          <p:cNvPicPr/>
          <p:nvPr/>
        </p:nvPicPr>
        <p:blipFill>
          <a:blip r:embed="rId1"/>
          <a:stretch/>
        </p:blipFill>
        <p:spPr>
          <a:xfrm>
            <a:off x="1857240" y="3786120"/>
            <a:ext cx="2286000" cy="230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商談の行方で出来上がる商品は全然違うもの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料金に見合った納期を設定する、早く完成しても料金に見合った時期に納品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プション機能は別料金と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Users\sys01\AppData\Local\Microsoft\Windows\Temporary Internet Files\Content.IE5\FV5VQ9DR\MCj04260660000[1].wmf"/>
          <p:cNvPicPr/>
          <p:nvPr/>
        </p:nvPicPr>
        <p:blipFill>
          <a:blip r:embed="rId2"/>
          <a:stretch/>
        </p:blipFill>
        <p:spPr>
          <a:xfrm>
            <a:off x="5286240" y="3786120"/>
            <a:ext cx="1928880" cy="2244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54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他人との折衝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sys01\AppData\Local\Microsoft\Windows\Temporary Internet Files\Content.IE5\FV5VQ9DR\MCj04041330000[1].wmf"/>
          <p:cNvPicPr/>
          <p:nvPr/>
        </p:nvPicPr>
        <p:blipFill>
          <a:blip r:embed="rId1"/>
          <a:stretch/>
        </p:blipFill>
        <p:spPr>
          <a:xfrm>
            <a:off x="1571760" y="3854520"/>
            <a:ext cx="2357280" cy="2388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商談中に商品に必要な技術を瞬時に思い出し、必要工数を算出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め習得済技術の使用工数を時間単位で決めてお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注文内容を持ち帰ってから工数を算出して再商談しても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sys01\AppData\Local\Microsoft\Windows\Temporary Internet Files\Content.IE5\HFIU7FP0\MCj03009240000[1].wmf"/>
          <p:cNvPicPr/>
          <p:nvPr/>
        </p:nvPicPr>
        <p:blipFill>
          <a:blip r:embed="rId2"/>
          <a:stretch/>
        </p:blipFill>
        <p:spPr>
          <a:xfrm>
            <a:off x="4929120" y="4429080"/>
            <a:ext cx="2811600" cy="192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必要工数の計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928800" y="1571760"/>
            <a:ext cx="7858080" cy="437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仕様書製造ステップ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 [step/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仕様書手直しステップ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 [step/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計書製造ステップ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0 [step/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計書手直しステップ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 [step/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グラム製造ステップ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0 [step/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グラム手直しステップ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 [step/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49360"/>
            <a:ext cx="73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作業者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(</a:t>
            </a: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篠宮英峰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)</a:t>
            </a: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の製造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顧客が注文した内容になるように商品を仕上げ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ウォーターフォール型開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上流工程における手直しは全体の工数を大幅に消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3643200" y="3500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643200" y="3500280"/>
            <a:ext cx="2575080" cy="2614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54936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システム設計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549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ウォーターフォール型納品物実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sys01\AppData\Local\Microsoft\Windows\Temporary Internet Files\Content.IE5\FHGYZSA5\MPj03211830000[1].jpg"/>
          <p:cNvPicPr/>
          <p:nvPr/>
        </p:nvPicPr>
        <p:blipFill>
          <a:blip r:embed="rId1"/>
          <a:stretch/>
        </p:blipFill>
        <p:spPr>
          <a:xfrm>
            <a:off x="7196040" y="4127400"/>
            <a:ext cx="1947960" cy="273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料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工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作業者の時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作業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篠宮英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時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仕事のレベル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  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/ 3)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障害の程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× 2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補助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仕事のレベ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セールスエンジニ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400 [\/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仕事のレベ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システムエンジニ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400 [\/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仕事のレベ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グラマ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00 [\/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49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料金定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639800" y="2792520"/>
            <a:ext cx="7790040" cy="4290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料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4800 × 2 [h /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× 4 [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セールスエンジニア料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(4800 ×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書・設計書の製造・手直し工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エンジニア料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(2400 ×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ムの製造・手直し工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ー料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8400 + (4800 × 30 [h]) + (2400 × 20 [h]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決ソフトの場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30400 [\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決ソフトの場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8.2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人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4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9999"/>
                </a:solidFill>
                <a:latin typeface="Arial"/>
                <a:ea typeface="HG創英角ﾎﾟｯﾌﾟ体"/>
              </a:rPr>
              <a:t>料金計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1:58:08Z</dcterms:created>
  <dc:creator>Shinomiya</dc:creator>
  <dc:description/>
  <dc:language>en-US</dc:language>
  <cp:lastModifiedBy>Shinomiya</cp:lastModifiedBy>
  <dcterms:modified xsi:type="dcterms:W3CDTF">2009-11-14T03:11:39Z</dcterms:modified>
  <cp:revision>6</cp:revision>
  <dc:subject/>
  <dc:title>スライド 1</dc:title>
</cp:coreProperties>
</file>